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1.png" ContentType="image/png"/>
  <Override PartName="/ppt/media/image19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gif" ContentType="image/gif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1166-46C1-4FD8-8C1C-5B97C31D28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bi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b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er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s Cens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ts patents and registers trademar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reau of the Cens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tional Trade Administ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 C. Redfield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Commerce today is Carlos Gutierrez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s Cens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s patents and registers tradema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eau of the Cens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Trade Administ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 C. Redfield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Commerce today is Carlos Gutierre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forces federal law on minimum wages, maximum hours, and safe working condi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HA, Bureau of Labor Statis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B. Wilson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Labor today is Elaine Cha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forces federal law on minimum wages, maximum hours, and safe working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HA, Bureau of Labor Stat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 B. Wilson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Labor today is Elaine Cha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 and Hum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ervices – 195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ds health care research pro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forces pure food and drug 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care and Medic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and Drug Admin and CD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ricia Harris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HHS today is Michael O. Leavit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and Hum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rvices – 19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s health care research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forces pure food and drug 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re and Medic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and Drug Admin and CD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cia Harris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HHS today is Michael O. Leavit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ing and Urb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ment - 19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es home – financing and public housing pro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forces fair housing la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ice of Hous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bert C. Weaver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Housing today is Alphonso Jacks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sing and Urb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- 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es home – financing and public housing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forces fair housing la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 of Hou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C. Weaver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Housing today is Alphonso Jacks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6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ministers programs to promote and regulate highways, mass transit, railroads and air tra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deral Highway and Aviation Administ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an S. Boyd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Transportation today is Mary Pet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ers programs to promote and regulate highways, mass transit, railroads and air tra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eral Highway and Aviation Administ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n S. Boyd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Transportation today is Mary Pe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7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otes production of renewable energy, fossil fuels, and nuclear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s nuclear weapons research and produ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R. Schlesinger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Energy today is Samuel W. Bodm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production of renewable energy, fossil fuels, and nuclear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s nuclear weapons research and 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R. Schlesinger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Energy today is Samuel W. Bodm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uc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7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ministers federal aid to schools and conducts educational resear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ice of Elementary and Secondary Edu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irley Hufstedler 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Education today is Margaret Spell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ers federal aid to schools and conducts educational resear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 of Elementary and Secondary Edu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rley Hufstedler 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Education today is Margaret Spell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terans Affai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 ministries benefits, pensions, and medical programs for veter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teran Benefits Adm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onal Cemetery Adm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ward J. Derwinski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Veterans Affairs today is Jim Nichol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erans Affai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 ministries benefits, pensions, and medical programs for veter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eran Benefits Ad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Cemetery Ad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J. Derwinski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Veterans Affairs today is Jim Nichol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land Secur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der and transportation secur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ergency preparedness and respon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ast Guard, TSA, and immigration servi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m Ridge –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Homeland Security today is Michael Chert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land Secur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der and transportation secu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y preparedness and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st Guard, TSA, and immigration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 Ridge –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Homeland Security today is Michael Cherto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dition of the Cabinet dates back to the beginnings of the Presidency itsel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principal purposes of the Cabinet (drawn from Article II, Section 2 of the Constitution) is to advise the President on any subject he may require relating to the duties of their respective offic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dition of the Cabinet dates back to the beginnings of the Presidency itsel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principal purposes of the Cabinet (drawn from Article II, Section 2 of the Constitution) is to advise the President on any subject he may require relating to the duties of their respective off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ointment to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ident nominates and the Senate must confirm the nomin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 will usually reward loyal party members and may often select 1 position from the opposition par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culturalism is often taken into conside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ment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ident nominates and the Senate must confirm the nomin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will usually reward loyal party members and may often select 1 position from the opposition par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culturalism is often taken into conside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ises President on foreign poli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otiates treaties with foreign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ice of Passport Servi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Jefferson 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State today is Condoleezza R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ises President on foreign poli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otiates treaties with foreign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 of Passport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Jefferson 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State today is Condoleezza R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asu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s coins and bills; collects tax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forces alcohol, tobacco and firearms la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rows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S and United States M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exander Hamilton 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Treasury today is Henry Paul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su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coins and bills; collects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forces alcohol, tobacco and firearms la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s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 and United States M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xander Hamilton 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Treasury today is Henry Paul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ens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4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s military forces to deter war and protect the nation’s  secur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int Chiefs of Sta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artments of Navy, Army and Air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ry Knox – 1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Defense today is Robert G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military forces to deter war and protect the nation’s  secu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 Chiefs of Sta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s of Navy, Army and Air Fo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ry Knox – 1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Defense today is Robert G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i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secutes those accused of violating federal la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s legal advice for Presi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s US in cou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BI, DEA, ATF, US Marsh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mond Randolph – 1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torney General today is Alberto Gonzalez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7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ecutes those accused of violating federal l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legal advice for Pres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s US in cou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BI, DEA, ATF, US Marsh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mond Randolph – 1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orney General today is Alberto Gonzale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s public lands, wildlife refuges, and national par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Native Americans manage their aff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Fish and Wildlife Serv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onal park Serv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Ewing  - 1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Interior today is Dirk Kempthor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i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public lands, wildlife refuges, and national pa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Native Americans manage their aff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 Fish and Wildlife Ser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park Ser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wing  - 1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Interior today is Dirk Kempthor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ricultur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s national fore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pects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ministers food stamp and school lunch pro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and Nutrition Serv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 Coleman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Agriculture today is Mike Johan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national for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pects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ers food stamp and school lunch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and Nutrition Ser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 Coleman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Agriculture today is Mike Johan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80BA-B8AD-4390-B429-372E4756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EF1D-DF34-4022-AB84-57C80556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4224-B872-4653-A668-6B89727FE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9B29-627C-4D29-979A-E44F5E34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3193-00AE-40FF-B42D-1B5593D0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9761-B7D4-4D58-B4C1-E97B1C75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A595-CE36-47AA-A5B3-DDD42386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DF54-7FEE-425D-BF27-C5D04043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278B-B24D-479E-9B35-CE234506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F891-118C-457F-BCD1-41CC4C5F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9CD2-0668-4EA0-BA39-C2AE077F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3578-0CA6-4CA7-92A0-CCCF46E7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9A28-7612-4B52-9153-33D9F0D45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hyperlink" Target="http://www.whitehouse.gov/government/cabinet.html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state.gov/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streas.gov/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efenselink.mil/" TargetMode="External"/><Relationship Id="rId2" Type="http://schemas.openxmlformats.org/officeDocument/2006/relationships/image" Target="../media/image11.png"/><Relationship Id="rId3" Type="http://schemas.openxmlformats.org/officeDocument/2006/relationships/hyperlink" Target="http://www.whitehouse.gov/government/gates-bio.html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usdoj.gov/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doi.gov/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Photo of the Presidential Seal"/>
          <p:cNvPicPr/>
          <p:nvPr/>
        </p:nvPicPr>
        <p:blipFill>
          <a:blip r:embed="rId1"/>
          <a:stretch/>
        </p:blipFill>
        <p:spPr>
          <a:xfrm>
            <a:off x="2514600" y="1295280"/>
            <a:ext cx="4317840" cy="434340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1143000" y="152280"/>
            <a:ext cx="7315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President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50" name="WordArt 7"/>
          <p:cNvSpPr txBox="1"/>
          <p:nvPr/>
        </p:nvSpPr>
        <p:spPr>
          <a:xfrm>
            <a:off x="2057400" y="5486400"/>
            <a:ext cx="5257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Cabin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51" name="Picture 11" descr="3dflagsdotcom_usa_2fawl"/>
          <p:cNvPicPr/>
          <p:nvPr/>
        </p:nvPicPr>
        <p:blipFill>
          <a:blip r:embed="rId2"/>
          <a:stretch/>
        </p:blipFill>
        <p:spPr>
          <a:xfrm>
            <a:off x="228600" y="1752480"/>
            <a:ext cx="1905120" cy="1298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3dflagsdotcom_usa_2fawl"/>
          <p:cNvPicPr/>
          <p:nvPr/>
        </p:nvPicPr>
        <p:blipFill>
          <a:blip r:embed="rId3"/>
          <a:stretch/>
        </p:blipFill>
        <p:spPr>
          <a:xfrm>
            <a:off x="7162920" y="3962520"/>
            <a:ext cx="1981080" cy="135072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Commerce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19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ucts Cen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nts patents and registers tradema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reau of the Cen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tional Trad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liam C. Redfie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Commerce today is Carlos Gutierre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Commerce"/>
          <p:cNvPicPr/>
          <p:nvPr/>
        </p:nvPicPr>
        <p:blipFill>
          <a:blip r:embed="rId1"/>
          <a:stretch/>
        </p:blipFill>
        <p:spPr>
          <a:xfrm>
            <a:off x="5791320" y="3200400"/>
            <a:ext cx="2859120" cy="3657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doc_seal"/>
          <p:cNvPicPr/>
          <p:nvPr/>
        </p:nvPicPr>
        <p:blipFill>
          <a:blip r:embed="rId2"/>
          <a:stretch/>
        </p:blipFill>
        <p:spPr>
          <a:xfrm>
            <a:off x="6324480" y="457200"/>
            <a:ext cx="2819520" cy="26654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Labor </a:t>
            </a:r>
            <a:br>
              <a:rPr sz="48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rces federal law on minimum wages, maximum hours, and safe working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HA, Bureau of Labor Statis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liam B. Wilson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Labor today is Elaine Cha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Chao"/>
          <p:cNvPicPr/>
          <p:nvPr/>
        </p:nvPicPr>
        <p:blipFill>
          <a:blip r:embed="rId1"/>
          <a:stretch/>
        </p:blipFill>
        <p:spPr>
          <a:xfrm>
            <a:off x="5486400" y="3200400"/>
            <a:ext cx="2859120" cy="3657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labor- seal"/>
          <p:cNvPicPr/>
          <p:nvPr/>
        </p:nvPicPr>
        <p:blipFill>
          <a:blip r:embed="rId2"/>
          <a:stretch/>
        </p:blipFill>
        <p:spPr>
          <a:xfrm>
            <a:off x="6477120" y="5335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Health and Human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 Services – 195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18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ds health care research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rces pure food and drug 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care and Medic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d and Drug Admin and CD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ricia Harris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baseline="30000">
                <a:solidFill>
                  <a:srgbClr val="ff0000"/>
                </a:solidFill>
                <a:latin typeface="Arial"/>
              </a:rPr>
              <a:t>Secretary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of HHS today is Michael O. Leavit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HHS"/>
          <p:cNvPicPr/>
          <p:nvPr/>
        </p:nvPicPr>
        <p:blipFill>
          <a:blip r:embed="rId1"/>
          <a:stretch/>
        </p:blipFill>
        <p:spPr>
          <a:xfrm>
            <a:off x="5410080" y="3581280"/>
            <a:ext cx="2621160" cy="3276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hhs-1 seal"/>
          <p:cNvPicPr/>
          <p:nvPr/>
        </p:nvPicPr>
        <p:blipFill>
          <a:blip r:embed="rId2"/>
          <a:stretch/>
        </p:blipFill>
        <p:spPr>
          <a:xfrm>
            <a:off x="6705720" y="11430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Housing and Urban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Development - 19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es home – financing and public housing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rces fair housing la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 of Hou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ert C. Weaver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Housing today is Alphonso Jackson.</a:t>
            </a: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seal_HUD"/>
          <p:cNvPicPr/>
          <p:nvPr/>
        </p:nvPicPr>
        <p:blipFill>
          <a:blip r:embed="rId1"/>
          <a:stretch/>
        </p:blipFill>
        <p:spPr>
          <a:xfrm>
            <a:off x="6553080" y="1447920"/>
            <a:ext cx="2257560" cy="2257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HUD"/>
          <p:cNvPicPr/>
          <p:nvPr/>
        </p:nvPicPr>
        <p:blipFill>
          <a:blip r:embed="rId2"/>
          <a:stretch/>
        </p:blipFill>
        <p:spPr>
          <a:xfrm>
            <a:off x="5791320" y="3733920"/>
            <a:ext cx="2441520" cy="312408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Transportation 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6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nisters programs to promote and regulate highways, mass transit, railroads and air tra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deral Highway and Aviation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an S. Boyd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Transportation today is Mary Pete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Trans seal"/>
          <p:cNvPicPr/>
          <p:nvPr/>
        </p:nvPicPr>
        <p:blipFill>
          <a:blip r:embed="rId1"/>
          <a:stretch/>
        </p:blipFill>
        <p:spPr>
          <a:xfrm>
            <a:off x="6632640" y="838080"/>
            <a:ext cx="2511360" cy="2495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Mary Peters"/>
          <p:cNvPicPr/>
          <p:nvPr/>
        </p:nvPicPr>
        <p:blipFill>
          <a:blip r:embed="rId2"/>
          <a:stretch/>
        </p:blipFill>
        <p:spPr>
          <a:xfrm>
            <a:off x="6019920" y="3505320"/>
            <a:ext cx="2619360" cy="33526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Energy 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otes production of renewable energy, fossil fuels, and nuclear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ucts nuclear weapons research and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mes R. Schlesing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Energy today is Samuel W. Bodm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energy"/>
          <p:cNvPicPr/>
          <p:nvPr/>
        </p:nvPicPr>
        <p:blipFill>
          <a:blip r:embed="rId1"/>
          <a:stretch/>
        </p:blipFill>
        <p:spPr>
          <a:xfrm>
            <a:off x="5562720" y="3124080"/>
            <a:ext cx="2917800" cy="3733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energy- seal"/>
          <p:cNvPicPr/>
          <p:nvPr/>
        </p:nvPicPr>
        <p:blipFill>
          <a:blip r:embed="rId2"/>
          <a:stretch/>
        </p:blipFill>
        <p:spPr>
          <a:xfrm>
            <a:off x="6172200" y="304920"/>
            <a:ext cx="2743200" cy="27208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Education 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7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nisters federal aid to schools and conducts educational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 of Elementary and Secondary Edu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irley Hufsted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Education today is Margaret Spelling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Edu"/>
          <p:cNvPicPr/>
          <p:nvPr/>
        </p:nvPicPr>
        <p:blipFill>
          <a:blip r:embed="rId1"/>
          <a:stretch/>
        </p:blipFill>
        <p:spPr>
          <a:xfrm>
            <a:off x="5562720" y="3276720"/>
            <a:ext cx="2800080" cy="3581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education seal"/>
          <p:cNvPicPr/>
          <p:nvPr/>
        </p:nvPicPr>
        <p:blipFill>
          <a:blip r:embed="rId2"/>
          <a:stretch/>
        </p:blipFill>
        <p:spPr>
          <a:xfrm>
            <a:off x="6362640" y="380880"/>
            <a:ext cx="2781360" cy="2781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Veterans Affairs 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 ministries benefits, pensions, and medical programs for veter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teran Benefits Ad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al Cemetery Ad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ward J. Derwinski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Veterans Affairs today is Jim Nicholson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VA - seal"/>
          <p:cNvPicPr/>
          <p:nvPr/>
        </p:nvPicPr>
        <p:blipFill>
          <a:blip r:embed="rId1"/>
          <a:stretch/>
        </p:blipFill>
        <p:spPr>
          <a:xfrm>
            <a:off x="6400800" y="838080"/>
            <a:ext cx="2743200" cy="2692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VA"/>
          <p:cNvPicPr/>
          <p:nvPr/>
        </p:nvPicPr>
        <p:blipFill>
          <a:blip r:embed="rId2"/>
          <a:stretch/>
        </p:blipFill>
        <p:spPr>
          <a:xfrm>
            <a:off x="5715000" y="3429000"/>
            <a:ext cx="2679840" cy="3429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Homeland Security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20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rder and transportation secu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ergency preparedness and respo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st Guard, TSA, and immigration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m Ridge –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Homeland Security today is Michael Cherto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HS"/>
          <p:cNvPicPr/>
          <p:nvPr/>
        </p:nvPicPr>
        <p:blipFill>
          <a:blip r:embed="rId1"/>
          <a:stretch/>
        </p:blipFill>
        <p:spPr>
          <a:xfrm>
            <a:off x="5943600" y="3657600"/>
            <a:ext cx="2560680" cy="3200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HS seal"/>
          <p:cNvPicPr/>
          <p:nvPr/>
        </p:nvPicPr>
        <p:blipFill>
          <a:blip r:embed="rId2"/>
          <a:stretch/>
        </p:blipFill>
        <p:spPr>
          <a:xfrm>
            <a:off x="6400800" y="8380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Century Schoolbook"/>
              </a:rPr>
              <a:t>History of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 tradition of the Cabinet dates back to the beginnings of the Presidency itsel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e of the principal purposes of the Cabinet (drawn from Article II, Section 2 of the Constitution) is to advise the President on any subject he may require relating to the duties of their respective offic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Copies of the energy report are resting on the table in the Cabinet Room. White House photo by David Bohrer."/>
          <p:cNvPicPr/>
          <p:nvPr/>
        </p:nvPicPr>
        <p:blipFill>
          <a:blip r:embed="rId1"/>
          <a:stretch/>
        </p:blipFill>
        <p:spPr>
          <a:xfrm>
            <a:off x="0" y="3962520"/>
            <a:ext cx="4343400" cy="2895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bushcabinet525"/>
          <p:cNvPicPr/>
          <p:nvPr/>
        </p:nvPicPr>
        <p:blipFill>
          <a:blip r:embed="rId2"/>
          <a:stretch/>
        </p:blipFill>
        <p:spPr>
          <a:xfrm>
            <a:off x="4800600" y="3962520"/>
            <a:ext cx="4343400" cy="289548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ppointment to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 President nominates and the Senate must confirm the nomin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esident will usually reward loyal party members and may often select 1 position from the opposition par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ulticulturalism is often taken into conside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President George W. Bush"/>
          <p:cNvPicPr/>
          <p:nvPr/>
        </p:nvPicPr>
        <p:blipFill>
          <a:blip r:embed="rId1"/>
          <a:stretch/>
        </p:blipFill>
        <p:spPr>
          <a:xfrm>
            <a:off x="5410080" y="2057400"/>
            <a:ext cx="3535560" cy="48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Photo of the Presidential Seal"/>
          <p:cNvPicPr/>
          <p:nvPr/>
        </p:nvPicPr>
        <p:blipFill>
          <a:blip r:embed="rId2"/>
          <a:stretch/>
        </p:blipFill>
        <p:spPr>
          <a:xfrm>
            <a:off x="0" y="0"/>
            <a:ext cx="1819440" cy="1828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Photo of the Presidential Sea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50040" y="0"/>
            <a:ext cx="1893960" cy="19051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State </a:t>
            </a:r>
            <a:br>
              <a:rPr sz="48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7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ises President on foreign pol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gotiates treaties with foreign coun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 of Passport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mas Jefferson 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State today is Condoleezza R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State"/>
          <p:cNvPicPr/>
          <p:nvPr/>
        </p:nvPicPr>
        <p:blipFill>
          <a:blip r:embed="rId1"/>
          <a:stretch/>
        </p:blipFill>
        <p:spPr>
          <a:xfrm>
            <a:off x="5181480" y="3429000"/>
            <a:ext cx="2560680" cy="327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State - sea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00800" y="3808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Treasury </a:t>
            </a:r>
            <a:br>
              <a:rPr sz="48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7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18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es coins and bills; collects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rces alcohol, tobacco and firearms la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rrows mon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S and United States M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exander Hamilton 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Treasury today is Henry Paul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treasure se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533520"/>
            <a:ext cx="2590920" cy="2590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Henry M. Paulson, Jr."/>
          <p:cNvPicPr/>
          <p:nvPr/>
        </p:nvPicPr>
        <p:blipFill>
          <a:blip r:embed="rId3"/>
          <a:stretch/>
        </p:blipFill>
        <p:spPr>
          <a:xfrm>
            <a:off x="5867280" y="3276720"/>
            <a:ext cx="2560680" cy="327636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Defense </a:t>
            </a:r>
            <a:br>
              <a:rPr sz="48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s military forces to deter war and protect the nation’s  secu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int Chiefs of Sta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artments of Navy, Army and Air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nry Knox –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Defense today is Robert G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Def Se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6858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Photo of Robert M. Gates, Secretary of Def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3276720"/>
            <a:ext cx="2865240" cy="35812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Justic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7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ecutes those accused of violating federal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s legal advice for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s US in co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BI, DEA, ATF, US Marsh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mond Randolph –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ttorney General today is Alberto Gonzale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Justice"/>
          <p:cNvPicPr/>
          <p:nvPr/>
        </p:nvPicPr>
        <p:blipFill>
          <a:blip r:embed="rId1"/>
          <a:stretch/>
        </p:blipFill>
        <p:spPr>
          <a:xfrm>
            <a:off x="5824440" y="3124080"/>
            <a:ext cx="2917800" cy="3733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Seal_Dep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5880" y="228600"/>
            <a:ext cx="2895840" cy="285588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Interior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br>
              <a:rPr sz="44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84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s public lands, wildlife refuges, and national pa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ps Native Americans manage their aff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 Fish and Wildlife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al park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mas Ewing 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Interior today is Dirk Kempthor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interior-1 se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6094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Dirk Kempthorne"/>
          <p:cNvPicPr/>
          <p:nvPr/>
        </p:nvPicPr>
        <p:blipFill>
          <a:blip r:embed="rId3"/>
          <a:stretch/>
        </p:blipFill>
        <p:spPr>
          <a:xfrm>
            <a:off x="6172200" y="3429000"/>
            <a:ext cx="2679840" cy="34290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Agriculture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188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s national for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s f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nisters food stamp and school lunch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d and Nutrition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rm Coleman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Agriculture today is Mike Johan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agriculture-1 seal"/>
          <p:cNvPicPr/>
          <p:nvPr/>
        </p:nvPicPr>
        <p:blipFill>
          <a:blip r:embed="rId1"/>
          <a:stretch/>
        </p:blipFill>
        <p:spPr>
          <a:xfrm>
            <a:off x="6400800" y="685800"/>
            <a:ext cx="2550960" cy="2590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Agrric"/>
          <p:cNvPicPr/>
          <p:nvPr/>
        </p:nvPicPr>
        <p:blipFill>
          <a:blip r:embed="rId2"/>
          <a:stretch/>
        </p:blipFill>
        <p:spPr>
          <a:xfrm>
            <a:off x="5867280" y="3429000"/>
            <a:ext cx="2679840" cy="34290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6:20:46Z</dcterms:created>
  <dc:creator>dgreenbe</dc:creator>
  <dc:description/>
  <dc:language>en-US</dc:language>
  <cp:lastModifiedBy>Legion</cp:lastModifiedBy>
  <dcterms:modified xsi:type="dcterms:W3CDTF">2017-07-05T12:38:04Z</dcterms:modified>
  <cp:revision>71</cp:revision>
  <dc:subject/>
  <dc:title>Slide 1</dc:title>
</cp:coreProperties>
</file>